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F35CF04-EB19-4CD0-BB40-EA2986B6716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C4F8D36-BE15-4592-BCA8-32757DF9B078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cm98\Brazil\Sovereign\Banco Central\rdshgs.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D366991-2B3B-462C-8EF0-50FCA756A8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E8AF5CA-F832-457C-8AFA-2F3B2F4B0E6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618C664-EBA5-4E4E-8095-8E12F43285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</a:rPr>
              <a:t>Taxa de desconto média ponderada pelo valor (Cielo e Redec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idera cartões de crédito e de débito: cálculo pela lucrativid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C8AC326-F59A-4330-922A-89111D212BEF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D84768B-1C2B-4D41-AA58-4AC32B237CE6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F34DA99-34FD-48A0-B25D-630C87C5A2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11FD223-C9A8-42A4-8B4C-5148A82A3D5F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 de anuidade Hipercard = 0 (z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D9B0A68-F3E5-49C0-B4D4-7BBA2574B1C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C663A9C-6E4E-4D05-947F-46A21C0FEA84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5FE0C64-EDC0-445D-BD2F-8C33861642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633691C-7094-473A-B116-EB4EDE6EDE7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33B9EED-282C-4912-A41A-7BE13B74354C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B044955-DDFD-4820-9B9D-E7C91AB8572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4C8C79A-E378-41FD-AAF1-3F96785A728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AF0856B-27FB-4617-8CFD-0A5BFF41D90F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D0BF8E-CA5E-4983-8201-72C0CA626A47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B4C8F7D-C481-467B-B04A-E0E0986217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4D43B4-9BC8-45CA-9989-36E1EE566578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A4F3FEA-1316-4632-87C1-A3B68F9342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25A29CB-CB21-46B6-9143-0B43682987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5205B48-3A9A-4BE6-A538-2A394875A01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EB8ECD1-ED2D-4402-9A0B-88390BE0ED2E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0959655-24FE-40AD-A2B4-09FFAEF1F4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99C3088-8805-415F-9AEC-65061736A73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6B6F796-F06B-40DB-9C94-41810B93DDF0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CA790BA-6A3B-458C-AD64-C18E0213F1D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5A50147-BA8E-4A08-BA3C-0A7DC882447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7188B4B-17F0-47E4-B892-9FCAE2C41E77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7BDE695-4234-47B2-ACE0-A361913FB6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AAA8C73-1A14-4A21-B5B7-46B1B930B4A3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B649AC2-DC0B-4E8D-A5EC-47C2D51D86B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D800AE9-2A67-4C46-9AE7-0CF6710C94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CB75DD5-8418-4339-8219-88A58C121105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F740A88-D275-467D-8C3B-0589CE3093C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6:5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DDD95A6-D1B6-48BC-A21C-961ADAB909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1BD5-D1C3-48F8-AD56-D1A5F08C3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2EE1-4ED5-44B4-B492-90EBDE103A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A10B-5E5C-423B-855A-C2244FD951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1EED-F6DE-4450-B1C4-56CCAB6E8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C2ED-E5F7-4768-A978-1EE36CB2BD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3B11-EE0B-4DC6-BE75-41C6C9B00F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28CD-CA5D-47FB-9EB3-41A5B5B60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A78A-C8A7-4F84-A5B8-93B8DB8EE5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A7EA-47C1-4182-8F1D-6F4A433528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801C-90FF-4A4B-8C67-0195E5F30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D206-BEBF-4BA0-98C1-7748AACB4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3135-FAA2-4BE4-9F9A-1FEFF92A8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956569-CABE-4747-B0E8-14F729833B2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4C2A7E-A7F6-4D44-BE50-891D2DDC801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432280" y="107640"/>
            <a:ext cx="5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D306-4A7A-46EE-94A6-28A64AB4D444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897200"/>
            <a:ext cx="899964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issão de Desenvolvimento Econômico, Indústria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diência Pública - Atuação do Segmento de Cartão de Crédito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1280" y="5037120"/>
            <a:ext cx="907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gresso - Brasília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julho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 – aluguel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360" y="1249200"/>
            <a:ext cx="902988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5"/>
          <p:cNvSpPr/>
          <p:nvPr/>
        </p:nvSpPr>
        <p:spPr>
          <a:xfrm>
            <a:off x="4430880" y="1177920"/>
            <a:ext cx="3587760" cy="4613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809640" y="1177920"/>
            <a:ext cx="3621240" cy="4633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6760" y="1036800"/>
            <a:ext cx="85723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do mercad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tinação da taxa de desc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CC93-64A2-43B7-BE6C-840628E16C32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50200" cy="3765600"/>
          </a:xfrm>
          <a:prstGeom prst="rect">
            <a:avLst/>
          </a:prstGeom>
          <a:ln w="0">
            <a:noFill/>
          </a:ln>
        </p:spPr>
      </p:pic>
      <p:sp>
        <p:nvSpPr>
          <p:cNvPr id="126" name="Chave esquerda 11"/>
          <p:cNvSpPr/>
          <p:nvPr/>
        </p:nvSpPr>
        <p:spPr>
          <a:xfrm>
            <a:off x="1042920" y="1700280"/>
            <a:ext cx="216000" cy="29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952720"/>
              <a:gd name="textAreaBottom" fmla="*/ 2947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ixaDeTexto 12" descr=""/>
          <p:cNvPicPr/>
          <p:nvPr/>
        </p:nvPicPr>
        <p:blipFill>
          <a:blip r:embed="rId2"/>
          <a:stretch/>
        </p:blipFill>
        <p:spPr>
          <a:xfrm>
            <a:off x="609480" y="1773360"/>
            <a:ext cx="408240" cy="2805120"/>
          </a:xfrm>
          <a:prstGeom prst="rect">
            <a:avLst/>
          </a:prstGeom>
          <a:ln w="0">
            <a:noFill/>
          </a:ln>
        </p:spPr>
      </p:pic>
      <p:pic>
        <p:nvPicPr>
          <p:cNvPr id="128" name="CaixaDeTexto 13" descr=""/>
          <p:cNvPicPr/>
          <p:nvPr/>
        </p:nvPicPr>
        <p:blipFill>
          <a:blip r:embed="rId3"/>
          <a:stretch/>
        </p:blipFill>
        <p:spPr>
          <a:xfrm>
            <a:off x="7881840" y="2779560"/>
            <a:ext cx="55584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Chave direita 14"/>
          <p:cNvSpPr/>
          <p:nvPr/>
        </p:nvSpPr>
        <p:spPr>
          <a:xfrm>
            <a:off x="7524720" y="285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728720"/>
              <a:gd name="textAreaBottom" fmla="*/ 17233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1280" y="819000"/>
            <a:ext cx="9001440" cy="5408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108000" bIns="0" anchor="ctr">
            <a:normAutofit/>
          </a:bodyPr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Resolução nº 3.919, de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adronização dos serviç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mplificação de tarifas ao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Majoração de preços após 365 dias do último valor divul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Divulgação e clareza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Planos de recompensa ou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Detalhamento de encargos e custo efetivo to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Encaminhamento de cartão de crédito somente a expressa solicitaçã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ossibilidade de cancelamento temp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Circular nº 3.512,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Limitação do valor do rotativo em relação ao total d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Maior transparência para o consumidor em relação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s, encargos financeiros , obrigações e dir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ndividamento mais restrito por meio do cartão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Número de Slide 7"/>
          <p:cNvSpPr/>
          <p:nvPr/>
        </p:nvSpPr>
        <p:spPr>
          <a:xfrm>
            <a:off x="8640720" y="10800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56D-CCD8-4654-8560-939D581B3BC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missor e Portador -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médio da Tarifa de Anu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1520" y="1757520"/>
            <a:ext cx="88552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financiado no crédito rotativo sobre volume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9200" y="1819440"/>
            <a:ext cx="901404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enár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1280" y="1006200"/>
            <a:ext cx="90014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Comunidade Europeia e Austrá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Intervenção das autoridades locais na tarifa de intercâmbio (cartão de crédito e débito): tarifa definida pelo mercado acima da tarifa ótima (bem-estar social) e, por ser resultado de acordo coletivo entr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(desconto ou sobrepreço), quando justificado, cada país pode decidir por não permitir o sobre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E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regulação: cartão de dé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 de intercâmbio limitada a um valor máximo obtido pela soma de US$ 0,21 por transação mais 0,05% do valor da transação (outubro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proíbe arranjos de exclusividade de rede de processamento das transações (abril d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914400"/>
            <a:ext cx="9072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Objetivo do Banc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segurança e eficiência do Sistema de Pagamentos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do bem estar social na prestação de serviços de 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studo marco legal sobre arranjo de pag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Competência CMN e Banc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601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Papeis complementares da Regulação e Auto-reg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1280" y="2857680"/>
            <a:ext cx="8998200" cy="16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rdilson Fernandes Quei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rdilson.queiroz@bcb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+55 (61) 3414-2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62080" indent="-262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m das exclusividades entre credenciadores e proprietários de esqu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Novos credenci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stema de controle de garan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gente neutro para a compensação e para a liquidação das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Desenvolvimento de esquema local de cartões de dé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Interoperabilidade parcial de serviç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na transparência das tari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to-regul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 – relatório da indústria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 n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8"/>
          <p:cNvSpPr/>
          <p:nvPr/>
        </p:nvSpPr>
        <p:spPr>
          <a:xfrm>
            <a:off x="4592520" y="1087560"/>
            <a:ext cx="3942000" cy="45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731880" y="1109520"/>
            <a:ext cx="3890880" cy="450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cartões emitidos e ativos (m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8436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quantidade de trans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0480" y="1036800"/>
            <a:ext cx="9043920" cy="52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modalidade do cartã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77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forma de captura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parcelament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e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051F-6308-47A4-9B66-D237D94A73E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0" y="342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14560" y="1096920"/>
            <a:ext cx="68958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23920" y="3535200"/>
            <a:ext cx="6896160" cy="27514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0"/>
          <p:cNvSpPr/>
          <p:nvPr/>
        </p:nvSpPr>
        <p:spPr>
          <a:xfrm>
            <a:off x="1554120" y="2286000"/>
            <a:ext cx="61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2"/>
          <p:cNvSpPr/>
          <p:nvPr/>
        </p:nvSpPr>
        <p:spPr>
          <a:xfrm>
            <a:off x="1565280" y="4826160"/>
            <a:ext cx="61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cred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4A9C-829E-468B-B6B8-A0F804BC1B7E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27160" y="1087560"/>
            <a:ext cx="6869160" cy="269712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73160" y="3525840"/>
            <a:ext cx="689616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7"/>
          <p:cNvSpPr/>
          <p:nvPr/>
        </p:nvSpPr>
        <p:spPr>
          <a:xfrm>
            <a:off x="0" y="3433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1"/>
          <p:cNvSpPr/>
          <p:nvPr/>
        </p:nvSpPr>
        <p:spPr>
          <a:xfrm>
            <a:off x="1533600" y="1930320"/>
            <a:ext cx="61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2"/>
          <p:cNvSpPr/>
          <p:nvPr/>
        </p:nvSpPr>
        <p:spPr>
          <a:xfrm>
            <a:off x="1533600" y="459252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1:44:38Z</dcterms:created>
  <dc:creator>BACEN</dc:creator>
  <dc:description/>
  <dc:language>en-US</dc:language>
  <cp:lastModifiedBy>H</cp:lastModifiedBy>
  <cp:lastPrinted>2002-06-19T00:46:02Z</cp:lastPrinted>
  <dcterms:modified xsi:type="dcterms:W3CDTF">2012-07-05T14:41:24Z</dcterms:modified>
  <cp:revision>3090</cp:revision>
  <dc:subject/>
  <dc:title>Slide sem título</dc:title>
</cp:coreProperties>
</file>